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2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76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2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0240" y="0"/>
            <a:ext cx="84214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982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88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776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982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88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240" y="0"/>
            <a:ext cx="84214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93000"/>
              </a:lnSpc>
              <a:spcBef>
                <a:spcPts val="1500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2" marL="1146240" indent="-238320">
              <a:lnSpc>
                <a:spcPct val="93000"/>
              </a:lnSpc>
              <a:spcBef>
                <a:spcPts val="1500"/>
              </a:spcBef>
              <a:buClr>
                <a:srgbClr val="2cff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3" marL="20318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4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5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6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2120" y="-3240"/>
            <a:ext cx="5631840" cy="68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5" y="21592"/>
                </a:moveTo>
                <a:arcTo wR="10800" hR="10800" stAng="5528993" swAng="10705801"/>
                <a:lnTo>
                  <a:pt x="10800" y="10800"/>
                </a:lnTo>
                <a:close/>
              </a:path>
              <a:path fill="none" w="21600" h="21600">
                <a:moveTo>
                  <a:pt x="10395" y="21592"/>
                </a:moveTo>
                <a:arcTo wR="10800" hR="10800" stAng="5528993" swAng="10705801"/>
              </a:path>
            </a:pathLst>
          </a:custGeom>
          <a:noFill/>
          <a:ln cap="rnd"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82040" y="-2377800"/>
            <a:ext cx="4723920" cy="41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1" y="21599"/>
                </a:moveTo>
                <a:arcTo wR="10800" hR="10800" stAng="5434688" swAng="4909113"/>
                <a:lnTo>
                  <a:pt x="10800" y="10800"/>
                </a:lnTo>
                <a:close/>
              </a:path>
              <a:path fill="none" w="21600" h="21600">
                <a:moveTo>
                  <a:pt x="10691" y="21599"/>
                </a:moveTo>
                <a:arcTo wR="10800" hR="10800" stAng="5434688" swAng="4909113"/>
              </a:path>
            </a:pathLst>
          </a:custGeom>
          <a:noFill/>
          <a:ln cap="rnd" w="1260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 flipV="1">
            <a:off x="6431040" y="0"/>
            <a:ext cx="2712960" cy="3075120"/>
          </a:xfrm>
          <a:prstGeom prst="line">
            <a:avLst/>
          </a:prstGeom>
          <a:ln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43920" y="1440"/>
            <a:ext cx="1440" cy="6810480"/>
          </a:xfrm>
          <a:prstGeom prst="line">
            <a:avLst/>
          </a:prstGeom>
          <a:ln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34920"/>
            <a:ext cx="9142560" cy="0"/>
          </a:xfrm>
          <a:prstGeom prst="line">
            <a:avLst/>
          </a:prstGeom>
          <a:ln w="1260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400800"/>
            <a:ext cx="739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Arial"/>
              </a:rPr>
              <a:t>Copyright </a:t>
            </a:r>
            <a:r>
              <a:rPr b="0" lang="en-US" sz="1400" spc="-1" strike="noStrike">
                <a:solidFill>
                  <a:srgbClr val="effffd"/>
                </a:solidFill>
                <a:latin typeface="Arial"/>
                <a:ea typeface="Arial"/>
              </a:rPr>
              <a:t>© 2001 Stephen A. Edwards  All rights reserved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40" y="465120"/>
            <a:ext cx="9128160" cy="1922400"/>
          </a:xfrm>
          <a:prstGeom prst="rect">
            <a:avLst/>
          </a:prstGeom>
          <a:gradFill rotWithShape="0">
            <a:gsLst>
              <a:gs pos="0">
                <a:srgbClr val="002931"/>
              </a:gs>
              <a:gs pos="50000">
                <a:srgbClr val="005364"/>
              </a:gs>
              <a:gs pos="100000">
                <a:srgbClr val="0029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686560"/>
            <a:ext cx="4603680" cy="685800"/>
          </a:xfrm>
          <a:prstGeom prst="rect">
            <a:avLst/>
          </a:prstGeom>
          <a:solidFill>
            <a:srgbClr val="0053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279360"/>
            <a:ext cx="8912520" cy="65865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2600280"/>
            <a:ext cx="0" cy="4265640"/>
          </a:xfrm>
          <a:prstGeom prst="line">
            <a:avLst/>
          </a:prstGeom>
          <a:ln w="2844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37480" y="0"/>
            <a:ext cx="330120" cy="6875640"/>
            <a:chOff x="6837480" y="0"/>
            <a:chExt cx="330120" cy="6875640"/>
          </a:xfrm>
        </p:grpSpPr>
        <p:sp>
          <p:nvSpPr>
            <p:cNvPr id="49" name=""/>
            <p:cNvSpPr/>
            <p:nvPr/>
          </p:nvSpPr>
          <p:spPr>
            <a:xfrm>
              <a:off x="6865920" y="6730920"/>
              <a:ext cx="76320" cy="1447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37480" y="30574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42040" y="33624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37480" y="42768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37480" y="549576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040" y="45813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5800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0"/>
              <a:ext cx="75960" cy="1033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144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37480" y="48564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37480" y="170496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2040" y="7905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20098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400" y="304920"/>
            <a:ext cx="7491240" cy="5470560"/>
          </a:xfrm>
          <a:custGeom>
            <a:avLst/>
            <a:gdLst/>
            <a:ahLst/>
            <a:rect l="l" t="t" r="r" b="b"/>
            <a:pathLst>
              <a:path w="4719" h="3446">
                <a:moveTo>
                  <a:pt x="4718" y="3445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85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29400" y="-2520"/>
            <a:ext cx="6857640" cy="68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5" y="21592"/>
                </a:moveTo>
                <a:arcTo wR="10800" hR="10800" stAng="5528974" swAng="10505479"/>
                <a:lnTo>
                  <a:pt x="10800" y="10800"/>
                </a:lnTo>
                <a:close/>
              </a:path>
              <a:path fill="none" w="21600" h="21600">
                <a:moveTo>
                  <a:pt x="10395" y="21592"/>
                </a:moveTo>
                <a:arcTo wR="10800" hR="10800" stAng="5528974" swAng="10505479"/>
              </a:path>
            </a:pathLst>
          </a:custGeom>
          <a:noFill/>
          <a:ln cap="rnd" w="2844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481800"/>
            <a:ext cx="7696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400800"/>
            <a:ext cx="792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400800"/>
            <a:ext cx="739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Arial"/>
              </a:rPr>
              <a:t>Copyright </a:t>
            </a:r>
            <a:r>
              <a:rPr b="0" lang="en-US" sz="1400" spc="-1" strike="noStrike">
                <a:solidFill>
                  <a:srgbClr val="effffd"/>
                </a:solidFill>
                <a:latin typeface="Arial"/>
                <a:ea typeface="Arial"/>
              </a:rPr>
              <a:t>© 2001 Stephen A. Edwards  All rights reserved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457200" indent="0" algn="ctr">
              <a:lnSpc>
                <a:spcPct val="88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effff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Synchronous Language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90480" y="2617920"/>
            <a:ext cx="66153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of. Stephen A. Edward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dvantages of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del of time gives programmer precise contro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cy convenient for specifying control system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mpletely deterministi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Guaranteed: no need for locks, semaphores, etc.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nite-state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sy to analyz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xecution time predictab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uch easier to verify formally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menable to implementation in both hardware and softwar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Disadvantages of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nite-state nature of the language limits flexibilit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14600" indent="-23436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o dynamic memory allocation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14600" indent="-23436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o dynamic creation of processe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Virtually nonexistent support for handling dat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ally suited for simple decision-dominated controller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ynchronous model of time can lead to overspecifica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mantic challeng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14600" indent="-23436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voiding causality violations often difficul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14600" indent="-23436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Difficult to compi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70440" indent="-37044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imited number of users, tools, etc.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04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ignal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programs communicate through signal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se are like wir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ch signal is either present or absent in each cyc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an’t take multiple values within a cyc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ce/absence not held between cycl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roadcast across the progra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ny process can read or write a signal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Basic Esterel Statement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ake signal S present in the current instan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 signal is absent unless it is emitted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top and resume after the next cycle after the paus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S then </a:t>
            </a:r>
            <a:r>
              <a:rPr b="1" i="1" lang="en-US" sz="2400" spc="-1" strike="noStrike">
                <a:solidFill>
                  <a:srgbClr val="effffd"/>
                </a:solidFill>
                <a:latin typeface="Arial"/>
              </a:rPr>
              <a:t>stmt1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else </a:t>
            </a:r>
            <a:r>
              <a:rPr b="1" i="1" lang="en-US" sz="2400" spc="-1" strike="noStrike">
                <a:solidFill>
                  <a:srgbClr val="effffd"/>
                </a:solidFill>
                <a:latin typeface="Arial"/>
              </a:rPr>
              <a:t>stmt1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f signal S is present in the current instant, immediately run stmt1, otherwise run stmt2 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Basic Esterel Statement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u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then emit B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akes A &amp; B present the first instant, C present the seco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114800"/>
            <a:ext cx="266688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0481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320040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ignal Coherence Rul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-38196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ch signal is only present or absent in a cycle, never both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ll writers run before any readers do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u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el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8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s an erroneous progra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dvantage of Synchrony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sy to control tim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peed of actual computation nearly uncontrollab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llows function and timing to be specified independentl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akes for deterministic 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xplicit control of  “before” “after” “at the same time”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ime Can Be Controlled Precisely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is guarantees every 60</a:t>
            </a:r>
            <a:r>
              <a:rPr b="1" lang="en-US" sz="2400" spc="-1" strike="noStrike" baseline="30000">
                <a:solidFill>
                  <a:srgbClr val="effffd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Sec a “Min” signal is emitt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very 60 Sec do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Mi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iming diagram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5638680"/>
            <a:ext cx="716292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50292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86728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i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594360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i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7242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47242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72932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7242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7242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472428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59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4724280"/>
            <a:ext cx="761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495288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1981080"/>
            <a:ext cx="31240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very” invokes its body every 60 Sec exactly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mit takes no tim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|| Operator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Groups of statements separated by || run concurrently and terminate when all groups have terminat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 pause; emit B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emit C; pause; emit 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4114800"/>
            <a:ext cx="266688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0481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30481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30481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mmunication Is Instantaneou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 signal emitted in a cycle is visible immediatel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emit A; pause; 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present A then emit B 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3276720"/>
            <a:ext cx="266688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3124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124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3124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2209680"/>
            <a:ext cx="4572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220968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20968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 Simple Exampl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specification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905120"/>
            <a:ext cx="6248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output O should occur when inputs A and B have both arrived. The R input should restart this behavior.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Bidirectional Communic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ocesses can communicate back and forth in the same cyc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emit A; present B then emit C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 present A then emit B 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5943600"/>
            <a:ext cx="266688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4876920"/>
            <a:ext cx="4572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4343400"/>
            <a:ext cx="45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44197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ncurrency and Determinism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ignals are the only way for concurrent processes to communicat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does have variables, but they cannot be shar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ignal coherence rules ensure deterministic behavio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anguage semantics clearly defines who must communicate with whom whe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Await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15652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await statement waits for a particular cyc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S waits for the next cycle in which S is prese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 ; pause ; pause; 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A; 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5562720"/>
            <a:ext cx="266724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44956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49568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Await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15652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normally waits for a cycle before beginning to check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immediate also checks the initial cyc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 ; pause ; pause; 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immediate A; 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562720"/>
            <a:ext cx="266724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5410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449568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9568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Loop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has an infinite loop stateme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ule: loop body cannot terminate instantl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eeds at least one pause, await, etc.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an’t do an infinite amount of work in a single cyc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 pause; pause; 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5943600"/>
            <a:ext cx="556272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4876920"/>
            <a:ext cx="45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876920"/>
            <a:ext cx="45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0120" y="5791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4876920"/>
            <a:ext cx="45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Loops and Synchroniz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stantaneous nature of loops plus await provide very powerful synchronization mechanism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60 Sec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Mi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5110200"/>
            <a:ext cx="716256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9579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86600" y="4500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533880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i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54151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i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419580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19580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420048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419580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4195800"/>
            <a:ext cx="457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419580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59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6600" y="419580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42440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Preemp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ften want to stop doing something and start doing something el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.g., Ctrl-C in Unix: stop the currently-running progra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has many constructs for handling preemp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Abort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asic preemption mechanis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General form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effffd"/>
                </a:solidFill>
                <a:latin typeface="Arial"/>
              </a:rPr>
              <a:t>stateme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</a:t>
            </a:r>
            <a:r>
              <a:rPr b="1" i="1" lang="en-US" sz="2400" spc="-1" strike="noStrike">
                <a:solidFill>
                  <a:srgbClr val="effffd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uns statement to completion. If condition ever holds, abort terminates immediately.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Abort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B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179856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96048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294156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2789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2789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2789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210348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2789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586728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57150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57150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57150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0292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5014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35780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420516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29000" y="420516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20516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350532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420516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1600200"/>
            <a:ext cx="3124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erminatio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747960"/>
            <a:ext cx="29718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borted termination. Execution of emit A preempted.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2747880"/>
            <a:ext cx="29718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borted termination.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5105520"/>
            <a:ext cx="3276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ermination. B not checked in first cycle (like await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trong vs. Weak Preemp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trong preemption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e body does not run when the preemption condition hold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e previous example illustrated strong preemption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eak preemption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e body is allowed to run even when the preemption condition holds, but is terminated thereafte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weak abort” implements this in Esterel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 First Try: An FSM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airly complicated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857680"/>
            <a:ext cx="380880" cy="380880"/>
          </a:xfrm>
          <a:prstGeom prst="ellipse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3960" y="4076640"/>
            <a:ext cx="381240" cy="381240"/>
          </a:xfrm>
          <a:prstGeom prst="ellipse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5448240"/>
            <a:ext cx="381240" cy="381240"/>
          </a:xfrm>
          <a:prstGeom prst="ellipse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97080" y="4152960"/>
            <a:ext cx="380880" cy="380880"/>
          </a:xfrm>
          <a:prstGeom prst="ellipse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2" idx="3"/>
            <a:endCxn id="115" idx="7"/>
          </p:cNvCxnSpPr>
          <p:nvPr/>
        </p:nvCxnSpPr>
        <p:spPr>
          <a:xfrm flipH="1">
            <a:off x="2522520" y="3195720"/>
            <a:ext cx="1038600" cy="100080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2" idx="5"/>
            <a:endCxn id="113" idx="1"/>
          </p:cNvCxnSpPr>
          <p:nvPr/>
        </p:nvCxnSpPr>
        <p:spPr>
          <a:xfrm>
            <a:off x="3830400" y="3195720"/>
            <a:ext cx="1089720" cy="92448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5"/>
            <a:endCxn id="114" idx="1"/>
          </p:cNvCxnSpPr>
          <p:nvPr/>
        </p:nvCxnSpPr>
        <p:spPr>
          <a:xfrm>
            <a:off x="2522160" y="4491000"/>
            <a:ext cx="1026360" cy="100080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3"/>
            <a:endCxn id="114" idx="7"/>
          </p:cNvCxnSpPr>
          <p:nvPr/>
        </p:nvCxnSpPr>
        <p:spPr>
          <a:xfrm flipH="1">
            <a:off x="3817080" y="4414680"/>
            <a:ext cx="1102680" cy="107712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4"/>
            <a:endCxn id="114" idx="0"/>
          </p:cNvCxnSpPr>
          <p:nvPr/>
        </p:nvCxnSpPr>
        <p:spPr>
          <a:xfrm flipH="1">
            <a:off x="3682440" y="3251160"/>
            <a:ext cx="13320" cy="218520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0"/>
            <a:endCxn id="112" idx="2"/>
          </p:cNvCxnSpPr>
          <p:nvPr/>
        </p:nvCxnSpPr>
        <p:spPr>
          <a:xfrm flipH="1" flipV="1" rot="5400000">
            <a:off x="2393280" y="3041280"/>
            <a:ext cx="1092960" cy="1105560"/>
          </a:xfrm>
          <a:prstGeom prst="bentConnector2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0"/>
            <a:endCxn id="112" idx="6"/>
          </p:cNvCxnSpPr>
          <p:nvPr/>
        </p:nvCxnSpPr>
        <p:spPr>
          <a:xfrm flipV="1" rot="16200000">
            <a:off x="3968280" y="2977560"/>
            <a:ext cx="1016640" cy="1156680"/>
          </a:xfrm>
          <a:prstGeom prst="bentConnector2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6"/>
            <a:endCxn id="112" idx="7"/>
          </p:cNvCxnSpPr>
          <p:nvPr/>
        </p:nvCxnSpPr>
        <p:spPr>
          <a:xfrm flipH="1" flipV="1">
            <a:off x="3830400" y="2900160"/>
            <a:ext cx="56160" cy="2738880"/>
          </a:xfrm>
          <a:prstGeom prst="bentConnector4">
            <a:avLst>
              <a:gd name="adj1" fmla="val -4802580"/>
              <a:gd name="adj2" fmla="val 118364"/>
            </a:avLst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553080" y="358128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/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R’/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276720"/>
            <a:ext cx="762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R’/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03848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BR’/O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502920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R’/O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487692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R’/O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59092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/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590920"/>
            <a:ext cx="1143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/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noFill/>
          <a:ln w="572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4"/>
            <a:endCxn id="112" idx="0"/>
          </p:cNvCxnSpPr>
          <p:nvPr/>
        </p:nvCxnSpPr>
        <p:spPr>
          <a:xfrm>
            <a:off x="3695400" y="2085840"/>
            <a:ext cx="1080" cy="759600"/>
          </a:xfrm>
          <a:prstGeom prst="straightConnector1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trong vs. Weak Abor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38890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B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49568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4343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4343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4343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505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34340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1219320"/>
            <a:ext cx="38890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eak abort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B;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C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457200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57800" y="44197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4197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44197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327672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44197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4952880"/>
            <a:ext cx="297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ong abort: emit A not allowed to ru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5029200"/>
            <a:ext cx="29718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eak abort: emit A allowed to run, body terminated afterward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trong vs. Weak Preemp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mportant distinc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omething cannot cause its own strong preemp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rroneous: if body runs then it could not hav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Trap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provides an exception facility for weak preemp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teracts nicely with 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ule: outermost trap takes precedenc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Trap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rap T i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xit 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wait B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 trap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179856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16462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06668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365760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3505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3505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236232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35053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1600200"/>
            <a:ext cx="3124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ermination from first proces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3306600"/>
            <a:ext cx="3124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mit C also run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548172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5329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5329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38480" y="5329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419112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C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4280" y="53290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4800600"/>
            <a:ext cx="31240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cond process allowed to run even though first process has exite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0368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44197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8494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Nested Trap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rap T1 i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rap T2 i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 exit T1 || exit T2 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4648320"/>
            <a:ext cx="2971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44956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44956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1676520"/>
            <a:ext cx="312444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uter trap takes precedence: control transferred directly to outer trap statement.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mit A not allowed to ru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38862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Suspend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emption (abort, trap) terminate something, but what if you want to pause it?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ike the unix Ctrl-Z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’s suspend statement pauses the execution of a group of statement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trong preemption: statement does not run when condition hold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Suspend Statemen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usp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 pause; pau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4114800"/>
            <a:ext cx="7543800" cy="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4876920"/>
            <a:ext cx="3124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 delays emission of A by one cycle 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3962520"/>
            <a:ext cx="0" cy="304560"/>
          </a:xfrm>
          <a:prstGeom prst="line">
            <a:avLst/>
          </a:prstGeom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992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81680" y="350532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4800600"/>
            <a:ext cx="31240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 prevents A from being emitted; resumed the next cycl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590920" y="4267080"/>
            <a:ext cx="91440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248520" y="434340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ausality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Unfortunate side-effect of instantaneous communication coupled with the single valued signal ru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sy to write contradictory programs, e.g.,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else emit A e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 emit A when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then nothing end; emit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se sorts of programs are erroneous and flagged by the Esterel compiler as incorrec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ausality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n be very complicated because of instantaneous communica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or example: this is also erroneou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hen 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||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[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B then emit A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au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8320" y="3200400"/>
            <a:ext cx="312408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mission of B indirectly causes emission of 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057400" y="3429000"/>
            <a:ext cx="2209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504960" y="4038480"/>
            <a:ext cx="106668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ausality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efinition has evolved since first version of the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riginal compiler had concept of “potentials”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tatic concept: at a particular program point, which signals could be emitted along any path from that poin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atest definition based on “constructive causality”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Dynamic concept: whether there’s a “guess-free proof”  that concludes a signal is absen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Esterel Vers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uch simpl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deas of signal, wait, reset part of the languag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odule ABRO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nput A, B, R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output O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[ await A || await B ]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mit O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ch 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nd modu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2362320"/>
            <a:ext cx="2057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eans the same thing as the FSM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ausality Exampl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-37800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sider the following progra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B then emit C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else emit B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sidered erroneous under the original compil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fter emit A runs, there’s a static path to emit B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refore, the value of B cannot be decided ye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xecution procedure deadlocks: program is ba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ausality Exampl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B then emit C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sent A else emit B end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sidered acceptable to the latest compil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fter emit A runs, it is clear that B cannot be emitted because A’s presence runs the “then” branch of the second prese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 declared absent, both present statements ru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mpiling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mantics of the language are formally defined and deterministic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t is the responsibility of the compiler to ensure the generated executable behaves correctly w.r.t. the semantic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hallenging for Ester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mpilation Challeng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teraction between exceptions and 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eemp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sumption (pause, await, etc.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hecking causalit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incarnation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op restriction generally prevents any statement from executing more than once in a cyc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mplex interaction between concurrency, traps, and loops can make certain statements execute more than onc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utomata-Based Compil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rst key insight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sterel is a finite-state languag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ch state is a set of program counter values where the program has paused between cycl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ignals are not part of these states because they do not hold their values between cycl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has variables, but these are not considered part of the stat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utomata-based Compil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rst compiler simulated an Esterel program in every possible state and generated code for each on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or exampl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utomata Exampl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 emit B; await C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D; present E then emit B end; 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witch (state) {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se 0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 = 1; B= 1; state = 1; break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se 1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f (C) { D = 1; if (E) { B = 1; } state = 3; }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lse { state = 1; }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780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1905120"/>
            <a:ext cx="3124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irst state: A, B, emitted, go to secon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3200400"/>
            <a:ext cx="31240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cond state: if C is present, emit D, check E &amp; emit F &amp; go on, otherwise, stay in second sta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666520" y="2362320"/>
            <a:ext cx="2667240" cy="1066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4960" y="4114800"/>
            <a:ext cx="190476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utomata Compilation Considered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Very fast cod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ternal signaling can be compiled awa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n generate a lot of code becaus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cy can cause exponential state growth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-state machine interacting with another n-state machine can produce n</a:t>
            </a:r>
            <a:r>
              <a:rPr b="1" lang="en-US" sz="2400" spc="-1" strike="noStrike" baseline="30000">
                <a:solidFill>
                  <a:srgbClr val="effff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stat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anguage provides input constraints for reducing state cou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ese inputs are mutually exclusive,”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f this input arrives, this one does, too”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utomata Compil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ot practical for large program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oretically interesting, but don’t work for most programs longer than 1000 lin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ll other techniques produce slower cod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Netlist-Based Compil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cond key insight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sterel programs can be translated into Boolean logic circuit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etlist-based compiler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ranslate each statement into a small number of logic gat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 straightforward, mechanical proces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Generate code that simulates the netlis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Esterel Vers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156520" cy="50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odule ABRO: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nput A, B, R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output O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[ await A || await B ]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mit O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ch 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nd modu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1219320"/>
            <a:ext cx="243828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sterel programs built from module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124080"/>
            <a:ext cx="3200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ach module has an interface of input and output signal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124080" y="1752480"/>
            <a:ext cx="198144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742840" y="3123720"/>
            <a:ext cx="205740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Netlist Exampl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A; emit B; await C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mit D; present E then emit B end; 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0" y="2286000"/>
            <a:ext cx="0" cy="106668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3124080"/>
            <a:ext cx="20574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2438280"/>
            <a:ext cx="20574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733560" y="2285640"/>
            <a:ext cx="1066680" cy="456840"/>
            <a:chOff x="3733560" y="2285640"/>
            <a:chExt cx="1066680" cy="456840"/>
          </a:xfrm>
        </p:grpSpPr>
        <p:sp>
          <p:nvSpPr>
            <p:cNvPr id="451" name=""/>
            <p:cNvSpPr/>
            <p:nvPr/>
          </p:nvSpPr>
          <p:spPr>
            <a:xfrm flipV="1">
              <a:off x="3733560" y="2285640"/>
              <a:ext cx="106668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34" y="83"/>
                  </a:moveTo>
                  <a:arcTo wR="10800" hR="10800" stAng="-4974333" swAng="10168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34" y="83"/>
                  </a:moveTo>
                  <a:arcTo wR="10800" hR="10800" stAng="-4974333" swAng="1016830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32160" y="2286720"/>
              <a:ext cx="14184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8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882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800600" y="2514600"/>
            <a:ext cx="129528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50320" y="2361240"/>
            <a:ext cx="3819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200400"/>
            <a:ext cx="129528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50320" y="3045240"/>
            <a:ext cx="3819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114800"/>
            <a:ext cx="685800" cy="380880"/>
          </a:xfrm>
          <a:prstGeom prst="rect">
            <a:avLst/>
          </a:prstGeom>
          <a:noFill/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876920"/>
            <a:ext cx="381240" cy="380880"/>
          </a:xfrm>
          <a:prstGeom prst="flowChartDelay">
            <a:avLst/>
          </a:prstGeom>
          <a:noFill/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81440" y="2703600"/>
            <a:ext cx="419040" cy="1145880"/>
            <a:chOff x="1981440" y="2703600"/>
            <a:chExt cx="419040" cy="1145880"/>
          </a:xfrm>
        </p:grpSpPr>
        <p:sp>
          <p:nvSpPr>
            <p:cNvPr id="460" name=""/>
            <p:cNvSpPr/>
            <p:nvPr/>
          </p:nvSpPr>
          <p:spPr>
            <a:xfrm flipV="1" rot="5400000">
              <a:off x="1618200" y="3066840"/>
              <a:ext cx="1145880" cy="41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34" y="83"/>
                  </a:moveTo>
                  <a:arcTo wR="10800" hR="10800" stAng="-4974333" swAng="10168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34" y="83"/>
                  </a:moveTo>
                  <a:arcTo wR="10800" hR="10800" stAng="-4974333" swAng="1016830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2114280" y="3106440"/>
              <a:ext cx="1522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8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882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733560" y="2971440"/>
            <a:ext cx="1066680" cy="456840"/>
            <a:chOff x="3733560" y="2971440"/>
            <a:chExt cx="1066680" cy="456840"/>
          </a:xfrm>
        </p:grpSpPr>
        <p:sp>
          <p:nvSpPr>
            <p:cNvPr id="463" name=""/>
            <p:cNvSpPr/>
            <p:nvPr/>
          </p:nvSpPr>
          <p:spPr>
            <a:xfrm flipV="1">
              <a:off x="3733560" y="2971440"/>
              <a:ext cx="106668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34" y="83"/>
                  </a:moveTo>
                  <a:arcTo wR="10800" hR="10800" stAng="-4974333" swAng="10168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34" y="83"/>
                  </a:moveTo>
                  <a:arcTo wR="10800" hR="10800" stAng="-4974333" swAng="1016830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32160" y="2972520"/>
              <a:ext cx="14184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8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882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209680" y="3886200"/>
            <a:ext cx="0" cy="22860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447920" y="4876920"/>
            <a:ext cx="380880" cy="380880"/>
          </a:xfrm>
          <a:prstGeom prst="flowChartDelay">
            <a:avLst/>
          </a:prstGeom>
          <a:noFill/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3"/>
            <a:endCxn id="461" idx="0"/>
          </p:cNvCxnSpPr>
          <p:nvPr/>
        </p:nvCxnSpPr>
        <p:spPr>
          <a:xfrm flipH="1" rot="10800000">
            <a:off x="1432440" y="3299760"/>
            <a:ext cx="756360" cy="1765800"/>
          </a:xfrm>
          <a:prstGeom prst="bentConnector4">
            <a:avLst>
              <a:gd name="adj1" fmla="val -28333"/>
              <a:gd name="adj2" fmla="val 113295"/>
            </a:avLst>
          </a:prstGeom>
          <a:ln w="28440">
            <a:solidFill>
              <a:srgbClr val="effffd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838080" y="5562720"/>
            <a:ext cx="13716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09680" y="5181480"/>
            <a:ext cx="0" cy="38124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5181480"/>
            <a:ext cx="4572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28800" y="4952880"/>
            <a:ext cx="60948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209680" y="4495680"/>
            <a:ext cx="0" cy="45720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noFill/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9000" y="5333040"/>
            <a:ext cx="3819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5105520"/>
            <a:ext cx="60948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4495680"/>
            <a:ext cx="129528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50320" y="4340880"/>
            <a:ext cx="3819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733560" y="4266720"/>
            <a:ext cx="1066680" cy="456840"/>
            <a:chOff x="3733560" y="4266720"/>
            <a:chExt cx="1066680" cy="456840"/>
          </a:xfrm>
        </p:grpSpPr>
        <p:sp>
          <p:nvSpPr>
            <p:cNvPr id="479" name=""/>
            <p:cNvSpPr/>
            <p:nvPr/>
          </p:nvSpPr>
          <p:spPr>
            <a:xfrm flipV="1">
              <a:off x="3733560" y="4266720"/>
              <a:ext cx="106668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34" y="83"/>
                  </a:moveTo>
                  <a:arcTo wR="10800" hR="10800" stAng="-4974333" swAng="10168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34" y="83"/>
                  </a:moveTo>
                  <a:arcTo wR="10800" hR="10800" stAng="-4974333" swAng="1016830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32160" y="4267800"/>
              <a:ext cx="141840" cy="45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8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8828"/>
                </a:path>
              </a:pathLst>
            </a:custGeom>
            <a:noFill/>
            <a:ln w="2844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 flipV="1">
            <a:off x="2971800" y="4648320"/>
            <a:ext cx="0" cy="45720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4648320"/>
            <a:ext cx="13716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9000" y="5029200"/>
            <a:ext cx="380880" cy="380880"/>
          </a:xfrm>
          <a:prstGeom prst="flowChartDelay">
            <a:avLst/>
          </a:prstGeom>
          <a:noFill/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92280" y="5948280"/>
            <a:ext cx="13716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329080"/>
            <a:ext cx="0" cy="61452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20760" y="5718600"/>
            <a:ext cx="366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5334120"/>
            <a:ext cx="4572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9880" y="5181480"/>
            <a:ext cx="30492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114800" y="3276360"/>
            <a:ext cx="0" cy="190476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5105520"/>
            <a:ext cx="0" cy="1143000"/>
          </a:xfrm>
          <a:prstGeom prst="line">
            <a:avLst/>
          </a:prstGeom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62240" y="5067360"/>
            <a:ext cx="76320" cy="7632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33640" y="5076720"/>
            <a:ext cx="76320" cy="7632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71880" y="5143680"/>
            <a:ext cx="75960" cy="7596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71880" y="4905360"/>
            <a:ext cx="75960" cy="7632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57560" y="3086280"/>
            <a:ext cx="75960" cy="7596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47840" y="2400480"/>
            <a:ext cx="76320" cy="75960"/>
          </a:xfrm>
          <a:prstGeom prst="ellipse">
            <a:avLst/>
          </a:prstGeom>
          <a:solidFill>
            <a:srgbClr val="effffd"/>
          </a:solidFill>
          <a:ln w="2844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28800" y="4114800"/>
            <a:ext cx="15228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lnTo>
                  <a:pt x="48" y="4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eff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Netlist Compilation Considered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cales very wel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etlist generation roughly linear in program siz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Generated code roughly linear in program siz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Good framework for analyzing causalit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emantics of netlists straightforward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nstructive reasoning equivalent to three-valued simulation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erribly inefficient cod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ts of time wasted computing ultimately irrelevant result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an be hundreds of time slower than automata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ittle use of conditional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Netlist Compilat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urrently the only solution for large programs that appear to have causality problem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calability attractive for industrial user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urrently the most widely-used techniqu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ntrol-Flow Graph-Based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Key insight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sterel looks like a imperative language, so treat it as such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sterel has a fairly natural translation into a concurrent control-flow graph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rick is simulating the 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t instructions in most Esterel programs can be scheduled staticall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Use this schedule to build code with explicit context switches in i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ontrol-flow Approach Considered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cales as well as the netlist compiler, but produces much faster code, almost as fast as automat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ot an easy framework for checking causalit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tatic scheduling requirement more restrictive than netlist compil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is compiler rejects some programs the others accep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nly implementation hiding within Synopsys’ CoCentric System Studio. Will probably never be used industrially.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e my recent IEEE Transactions on Computer-Aided Design paper for detail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What To Understand About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ynchronous model of tim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ime divided into sequence of discrete instant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nstructions either run and terminate in the same instant or explicitly in later instant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dea of signals and broadcas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Variables” that take exactly one value each instant and don’t persis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herence rule: all writers run before any reader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usality Issu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ntradictory program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How Esterel decides whether a program is correc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What To Understand About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mpilation techniqu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utomata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Fast cod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Doesn’t scal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etlist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Scales well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Slow cod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ood for causality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-24192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ntrol-flow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Scales well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Fast cod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-235800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ad at causality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2" marL="1134720" indent="0">
              <a:lnSpc>
                <a:spcPct val="87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1960" indent="-38196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mpilers, documentation, etc. available from www.esterel.org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Esterel Vers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156520" cy="50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odule ABRO: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nput A, B, R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output O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[ await A || await B ]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mit O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ch 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nd modu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219320"/>
            <a:ext cx="2438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oop … each statement implements the reset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124080"/>
            <a:ext cx="3200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wait waits for the next cycle in which its signal is present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28800" y="1752480"/>
            <a:ext cx="3276720" cy="2210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600" y="4648320"/>
            <a:ext cx="18288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971800" y="3581280"/>
            <a:ext cx="190512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3200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|| operator means run the two awaits in parallel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he Esterel Version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156520" cy="50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odule ABRO: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input A, B, R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output O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oo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[ await A || await B ];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mit O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ach 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3692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end modu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743200"/>
            <a:ext cx="31244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arallel statements terminate immediately when all branches hav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85840" y="3581280"/>
            <a:ext cx="685800" cy="6858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133360" y="4724280"/>
            <a:ext cx="236196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3200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mit O makes signal O present when A and B have both arrive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Basic Ideas of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mperative, textual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ased on synchronous model of tim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Program execution synchronized to an external clock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ike synchronous digital logic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uits the cyclic executive approach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wo types of statement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ose that take “zero time” (execute and terminate in same instant, e.g., emit)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Those that delay for a prescribed number of cycles (e.g., await)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Uses of Ester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ristwatch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anonical exampl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Reactive, synchronous, hard real-tim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7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troller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ommunication protocol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7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vionic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Fuel control system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anding gear controlle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7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Other user interface task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0">
              <a:lnSpc>
                <a:spcPct val="78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ocessor components (cache controller, etc.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0:00:48Z</dcterms:created>
  <dc:creator>sedwards</dc:creator>
  <dc:description/>
  <dc:language>en-US</dc:language>
  <cp:lastModifiedBy>Stephen A Edwards</cp:lastModifiedBy>
  <dcterms:modified xsi:type="dcterms:W3CDTF">2001-10-19T19:14:35Z</dcterms:modified>
  <cp:revision>80</cp:revision>
  <dc:subject/>
  <dc:title>The Synchronous Language Esterel</dc:title>
</cp:coreProperties>
</file>